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A79F-A53B-4526-B118-E933DCCF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F679-56CA-4DC4-84B5-F65A0637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315-FF6C-4260-9D6D-6E63E138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ABF4-70B6-4DB3-B8D4-E1E68982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9BF-4FF7-4654-AF00-4044C058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035-36B4-437C-8F7D-652E6C8C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BE43-FEE7-41A6-80D1-FDEBE62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296A-31CC-4B4E-A90C-49FB5F8B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D1C-A12B-4E47-BE2C-8B4473A70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B35-D2A1-4049-AF4F-C4F58761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A3E-93DF-4878-9F89-4C483078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7B2-64DC-4D88-B33C-3E094BD2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E5B4-117F-49DF-B1D7-A3D5EECD5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rst sign of early human life discove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867280" cy="446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6019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olcanoes first started forming earths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895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6095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rd shelled creatures first apper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3320" y="1752480"/>
            <a:ext cx="5640480" cy="41468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Mes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6171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ents shift similar to resemble modern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828800" y="1646280"/>
            <a:ext cx="5486400" cy="4537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622440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ands to modern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5410080" cy="4657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ale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 life su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00200" y="1679400"/>
            <a:ext cx="6248520" cy="4494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Cen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earance of mam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473440" cy="4484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Mesozoic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6248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nosau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14600" y="1447920"/>
            <a:ext cx="4495680" cy="48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293"/>
                </a:solidFill>
                <a:latin typeface="Optima ExtraBlack"/>
              </a:rPr>
              <a:t>Precambrian</a:t>
            </a:r>
            <a:br>
              <a:rPr sz="6000"/>
            </a:br>
            <a:endParaRPr b="0" lang="en-US" sz="6000" spc="-1" strike="noStrike">
              <a:solidFill>
                <a:srgbClr val="dfd29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6171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ery few discoveries of fossi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816520" cy="45291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5c1f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02:13:15Z</dcterms:created>
  <dc:creator>jen d</dc:creator>
  <dc:description/>
  <dc:language>en-US</dc:language>
  <cp:lastModifiedBy>jen d</cp:lastModifiedBy>
  <dcterms:modified xsi:type="dcterms:W3CDTF">2008-06-15T03:31:37Z</dcterms:modified>
  <cp:revision>4</cp:revision>
  <dc:subject/>
  <dc:title>Precambrian</dc:title>
</cp:coreProperties>
</file>